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25E0-47FF-481E-8A76-1C8F581A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D39-E975-4529-B04E-C5040FCA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33C-ACE6-49E8-AAAC-1857EE2B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90D-8B42-44B4-B27C-EDE81C1E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12FF6-416A-4094-B1FC-4C7BC05C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AC46E-00C7-43B1-BF1E-6D96056D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16730-CD17-4FA6-8534-BD64E22A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9F5AC-D10F-43E9-BC0F-8E8B3FAC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47E91-67B9-4BCC-8BEC-741360CD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5A0F4-DA6B-4CA9-BFEC-5ED1654B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7AB10-0AE9-4298-885E-59D36B9A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B37-FBCD-4B20-9443-FBA111A4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4D593-9B15-4E72-BB72-E604D39B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B0BB5-CE71-4F1F-91AF-4E03FD76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06C14-D18B-495C-8F47-FA444F5D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ED93D-66B1-4464-9E7F-A86559B4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EAF42-A236-4F2E-A264-5DC49882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D40-75AC-4614-A875-4C9DEAE6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DD8-15D1-4A6C-8108-7B23FC2F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1D1-8AE6-472C-BBCF-6C80393E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281-F348-44C7-936F-5FD21421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96C-D103-4BFB-81C7-06CA84A2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D4F-EDCC-468D-86A7-3C905046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7560-B39E-4CD9-84D9-B7085C8B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34E8-DA06-45DB-B588-6C38378249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44A5-6FCE-41D9-89A6-DE2CC36664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Problems with the articles of confederation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ticles of confederation provided a weak government. Congress was not allowed to levy taxes and no state had conmen curren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cks and bala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this works is each branch of government has a way to keep the others form having too much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4:42:32Z</dcterms:created>
  <dc:creator>eric.tobin</dc:creator>
  <dc:description/>
  <dc:language>en-US</dc:language>
  <cp:lastModifiedBy>eric.tobin</cp:lastModifiedBy>
  <dcterms:modified xsi:type="dcterms:W3CDTF">2008-04-24T15:05:25Z</dcterms:modified>
  <cp:revision>3</cp:revision>
  <dc:subject/>
  <dc:title>Problems with the articles of confederation </dc:title>
</cp:coreProperties>
</file>